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06FF-B86C-4CAC-9FF9-C4F75694D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F46E-C7ED-435A-96B8-27D158BDC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1122-3AE2-43D9-BEA4-0A5778FFB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6781-5C1D-4DEC-8020-F8D34917A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464F52-AEEA-4B71-94D6-1D1CCC18C29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710C8F-1E2D-4C45-9FC2-88D5F7BE8C5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1A9166-00D1-4D71-A3E0-CA10F892036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FCE0DF-EA54-4B9E-A23C-619DBF4FEBA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9841D3-9C45-4CEB-AE0C-B41CBA7D559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63F568-DD35-4129-93FD-8C48F7AFA0F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F0442F-00B1-418E-882A-5F57135B2B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7CD2-CCF0-46E8-8961-13D2741BD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05539F-5D58-4A99-A3B2-5484842928F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477425-7381-45A1-81F5-E06863863CA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AC6D2D-4FD9-44AE-89E4-5FA418D2687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2CBAE4-6BDA-45F2-AF3C-23411142801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1351F0-AC3C-4A1C-9BF2-B6B7D47BFF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62C6-B938-4287-9F96-28D783D10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47BE-BAEF-41D0-9053-045E519CD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BF81-200E-4E96-BF61-9B04AB059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1A07-3E87-46BF-9155-D3CD99EAB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5F93-2670-4675-B3B5-63343C62C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BA57-374C-46B4-A9A9-5EAF30FF5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E25D-ACCF-4936-BE16-463941EF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9E989-31B6-48A6-BF7F-8824859B15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A4BE6CCE-66CC-4EDB-A3CE-35FB17F450BC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1B67B11C-6583-414F-BC9F-3AE5480F5CC7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2266D-C4D9-439E-B681-B0C480FE04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4.png"/><Relationship Id="rId32" Type="http://schemas.openxmlformats.org/officeDocument/2006/relationships/image" Target="../media/image4.png"/><Relationship Id="rId3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-1440" y="2276640"/>
            <a:ext cx="9144000" cy="16570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Verdana"/>
              </a:rPr>
              <a:t>Contact Trac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PA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dromic surveillanc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transportation hubs and country b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ident Management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nel designed to lead th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ity to make decisions and release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bola Treatment Unit (ETU) [minimum:1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ED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up using WHO and MSF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olding/Isolation Uni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olation of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SPECT C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isting Infra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ly basic food/necessit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f need for repeat testing in 72 hou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formation Technology [not required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piInfo VHF software (CD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of easy data ex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ndatory reporting to WH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boratory Services must be identified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 not need to be in coun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er specimen packaging and shipment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Personnel Hierar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Diagram 3" descr=""/>
          <p:cNvPicPr/>
          <p:nvPr/>
        </p:nvPicPr>
        <p:blipFill>
          <a:blip r:embed="rId1"/>
          <a:stretch/>
        </p:blipFill>
        <p:spPr>
          <a:xfrm>
            <a:off x="1511280" y="476280"/>
            <a:ext cx="5975280" cy="3589200"/>
          </a:xfrm>
          <a:prstGeom prst="rect">
            <a:avLst/>
          </a:prstGeom>
          <a:ln w="0">
            <a:noFill/>
          </a:ln>
        </p:spPr>
      </p:pic>
      <p:sp>
        <p:nvSpPr>
          <p:cNvPr id="115" name="Straight Connector 6"/>
          <p:cNvSpPr/>
          <p:nvPr/>
        </p:nvSpPr>
        <p:spPr>
          <a:xfrm>
            <a:off x="2362320" y="3962520"/>
            <a:ext cx="2057400" cy="34272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8"/>
          <p:cNvSpPr/>
          <p:nvPr/>
        </p:nvSpPr>
        <p:spPr>
          <a:xfrm>
            <a:off x="1752480" y="3962520"/>
            <a:ext cx="2514600" cy="76176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Diagram 7" descr=""/>
          <p:cNvPicPr/>
          <p:nvPr/>
        </p:nvPicPr>
        <p:blipFill>
          <a:blip r:embed="rId2"/>
          <a:stretch/>
        </p:blipFill>
        <p:spPr>
          <a:xfrm>
            <a:off x="914400" y="3743280"/>
            <a:ext cx="647388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estigation Te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ologists, psychosocial behavioral experts (for stigma and mental health related issues), and health communication experts (for education and networking issues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xperience and training in probing contact tracing ques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terview a case about potential contact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tracer is concerned about the health status of a contact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ss the contact to determine whether they should be considered an EVD c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the contact is symptomatic and therefore a suspect case, they alert the field supervi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new case is identified through other means (i.e.-HC facility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sidence visit to identify all contac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lert contacts of their status, the contact tracing procedure, and offer supp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st all contacts on the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ontact Listing Form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of two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pid Response Team (RRT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for Investigation Team; subset of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ble for the first case detected in a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call 24 hours a day and 7 days a wee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nimum of two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Lead Epidemiologist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ined in contact tracing at the national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sees all field supervisor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need to be continued to be follow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are a prio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can be discharged from follow-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unicate with other branches such as the case management team and logistical team when a contact becomes a suspect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nimum of one at the national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Field Supervisor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epidemiologist with prior contact tracing exper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ign tracers to cont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le challenges and questions that arise in the fie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vate the investigation team for a symptomatic conta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ess quality assurance meas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lect data on current tracing effo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one field supervisor for 5-10 trac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Tracing Team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contact tracing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able and responsible, with cultural awar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it contacts every day for 21 day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iewing / inquiring about the contact’s health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rganizing tracing teams by geographic areas may maximize efficienc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clude tracers from the specific or nearby communities to increase acceptability of contact tracing activities among community resid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least two tracers assigned to each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team to see 10-20 contact a day, or more depending on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ta Manage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 data management experience and proficient computer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re: VHF EpiInfo datab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all data is entered electron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 reports to the lead epidemiologist and WH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vise those doing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neral 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98900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explains how to conduct contact tracing to effectively control the Ebola virus disease (EVD) outbrea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ansportation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terrain and ge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infection prevention and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identified suspect cases and confirmed cases to isolation units and ET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ped with a transportation vehicle that can handle droplet precautions and allow for disinf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three people on a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for transport;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Disinfection Team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ty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al health officers or sanitar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itization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ions where probable, suspected, and confirmed cases’ have been, locations where the initial identification occurred, and/or burial locations [depend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infection of transport vehic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ordinate with the transportation tea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hould follow WHO and CDC guidelines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minimum of two members per tea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urial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 memb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ial of deceased probable, suspected, and confirmed cases as well as conta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team of at least 6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to carry the body, 1 to disinfect the body,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22360" y="1789200"/>
          <a:ext cx="8099280" cy="4146480"/>
        </p:xfrm>
        <a:graphic>
          <a:graphicData uri="http://schemas.openxmlformats.org/drawingml/2006/table">
            <a:tbl>
              <a:tblPr/>
              <a:tblGrid>
                <a:gridCol w="1816200"/>
                <a:gridCol w="976320"/>
                <a:gridCol w="760320"/>
                <a:gridCol w="869760"/>
                <a:gridCol w="768600"/>
                <a:gridCol w="647640"/>
                <a:gridCol w="838080"/>
                <a:gridCol w="812880"/>
                <a:gridCol w="609480"/>
              </a:tblGrid>
              <a:tr h="192600">
                <a:tc gridSpan="6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ntact Tracing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ther Tea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0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ead Epidemiologi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Supervis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vestiga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cer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ata Manag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infec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urial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ersonal Protective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posable Glo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ow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shield (or goggl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mask N95/FFP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rgical mask for the C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io-hazard plastic ba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formation Technolog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lobal Positioning Sys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llular phones (with credi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u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lectronic Data Collection Too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hermom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ffice Suppl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ppropriate For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river/C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l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eld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ychosocial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r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quipment (including resources slid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of cellular phone cre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ing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Sanit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ansport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for field supervisors, tracers, and investigation tea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is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el if using own veh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6372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suspect, probable or confirmed case is first detected, the RRT is activ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acts must be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ing questions to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interviewing [case aliv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bal Autopsy [case dea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hold and community vis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May require several interviews of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l ou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2"/>
          <p:cNvSpPr/>
          <p:nvPr/>
        </p:nvSpPr>
        <p:spPr>
          <a:xfrm>
            <a:off x="1605240" y="5157720"/>
            <a:ext cx="60526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Types of 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Touched body fluids of the patient (blood, vomit, saliva, urine, feces, sperm, swea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= Had direct physical contact with the body of the patient (alive or de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= Touched or cleaned the linens, clothes, or dishes of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Slept or ate in the same household as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3"/>
          <p:cNvSpPr/>
          <p:nvPr/>
        </p:nvSpPr>
        <p:spPr>
          <a:xfrm>
            <a:off x="2641680" y="44280"/>
            <a:ext cx="38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BOLA CONTACT LISTING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Object 4" descr=""/>
          <p:cNvPicPr/>
          <p:nvPr/>
        </p:nvPicPr>
        <p:blipFill>
          <a:blip r:embed="rId1"/>
          <a:stretch/>
        </p:blipFill>
        <p:spPr>
          <a:xfrm>
            <a:off x="147600" y="533520"/>
            <a:ext cx="884880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Li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s interviewed by the investigation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last date of contact with th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discrepancy, use the most recent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exposure stat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’, ‘low’, or ‘no risk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” and ‘Low’ risk persons will require follow-u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ymptomatic contacts can continue daily activities if they have timely access to HC facilities in the event that they fall ill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definitions related to cases and contacts of patient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to prepare for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contact tracing should be conduct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contact tracing should be manag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how to maintain quality assurance during 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ce Deemed a Contac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lowing must occu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is notified of their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follow-up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e about EV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them contact information for tracing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 them to notify the team if they move or leave the geographic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a Contact Becomes Ill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s is changed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SPECT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ion team contacts the field supervi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ate transportation and disinfection t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ed to isolation unit for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*Need to initiate contact identification and contact listing for this new case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Follow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ily visits by tracing team for 21 d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-determined location and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ally, same team for the du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sure continuity and tru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nuances of contact’s daily rout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ome contacts are not found, they should be reported to the field supervis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rd this on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acing Summary Fo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eld Supervisor notifie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036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cing Summary Form (for Field Superviso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1828800" y="1125360"/>
            <a:ext cx="54133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ily Visit Scen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ontent Placeholder 2" descr=""/>
          <p:cNvPicPr/>
          <p:nvPr/>
        </p:nvPicPr>
        <p:blipFill>
          <a:blip r:embed="rId1"/>
          <a:stretch/>
        </p:blipFill>
        <p:spPr>
          <a:xfrm>
            <a:off x="360360" y="1060560"/>
            <a:ext cx="832644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uspect Case Cavi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has been sick for &lt;3 day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remain in isolation until repeat test on day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SI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w classified as CONFIRMED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ported to ET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vestigation team continues with this case’s contact identification and traci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GA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-classified as a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nues with previous 21 day follow-up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452520" y="2492280"/>
          <a:ext cx="8229600" cy="3678480"/>
        </p:xfrm>
        <a:graphic>
          <a:graphicData uri="http://schemas.openxmlformats.org/drawingml/2006/table">
            <a:tbl>
              <a:tblPr/>
              <a:tblGrid>
                <a:gridCol w="846000"/>
                <a:gridCol w="351000"/>
                <a:gridCol w="352440"/>
                <a:gridCol w="350640"/>
                <a:gridCol w="352440"/>
                <a:gridCol w="351000"/>
                <a:gridCol w="35244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</a:tblGrid>
              <a:tr h="1904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Fever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alai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uscle p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eadac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Sore Thro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Vomit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iarrhe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Ra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aemorrhage (unexplained bleeding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2"/>
          <p:cNvSpPr/>
          <p:nvPr/>
        </p:nvSpPr>
        <p:spPr>
          <a:xfrm>
            <a:off x="-37440" y="1197000"/>
            <a:ext cx="9154080" cy="11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ame: _______________________________________        Gender:_______      Age:  _______          Date of last contact (dd/mm/yy): ___________________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ddress:______________________________________        Telephone number: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ctions: For each day, evaluate the contact for the symptoms below and write ‘yes’ if the contact has the symptom and ‘no’ if the contact does not hav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 symptom. If a contact has any of the symptoms, immediately call the public health department at XXX-XXX-XXXX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itle 1"/>
          <p:cNvSpPr/>
          <p:nvPr/>
        </p:nvSpPr>
        <p:spPr>
          <a:xfrm>
            <a:off x="108000" y="-27000"/>
            <a:ext cx="892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ily Contact Follow-Up Form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for Trace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Dischar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following criteria are met on day 21, the contact is discharged from the tracing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 days of follow-up by the contact team have been per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was evaluated on day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t available, discharge cannot occur until evalu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Initial Case Identification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Ebola case is identified by the surveillance syste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s activated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nterviews the case using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e Ebola Virus Disease Case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ntact Questionnair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and  performs a household visit to establish a list of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ntac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apid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sponse team meets with each contact and performs the following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ssess the health status of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ert the contact of their statu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terview the contact with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he Ebola Virus Disease Case Contact Questionnai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plain the procedure of being traced daily for 21 day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 flight risk of the individu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dentify an appropriate meeting place and time with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pare the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lead epidemiologist assigns field supervisors based on the geographi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istribution of contac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ai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    The lead epidemiologist distributes an updated contact list to fi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vis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eld supervisors meet with their assigned tracing teams and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 the contact list for each team clustering contacts with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graphic proxim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    The tracers meet each contact and perform the following tas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ation of the contact’s general condition for any overt signs of ill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view contact regarding health status (presence of absence of specific sympto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l out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ct Follow-Up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k if they know of anyone else who is s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01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191628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  While tracer teams are evaluating contacts, the field supervisor provid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ogistical support including the arranging the transportation of tracing teams and ensuring pay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ctivation of the investigative team for any contact that tracers identify as having developed symptom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Quality assurance to ensure accuracy of the tracer’s repor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end of the day, tracers contact their field supervisors and 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status of their conta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eld supervisors complete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r Summary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ased o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provided by the contact tracers and investigation team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ata is sent to both the lead epidemiologist and data mana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    The data manager or data entry staff enters the data electronic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ead epidemiologist reviews the data and sets up the list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/ongoing contacts for the following 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ACT TRACING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gisters information regarding cases and contac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duces daily reports, exporting for data analys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eographic mapping of contact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imely reporting of data and trend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sufficient resources and/or existing infrastructure exist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 data collection in the field should be consid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E: Although the VHF EpiInfo Database is recommended, other databases such as WHO’s Field Information Management System (FIMS), can be utilized as well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i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incentives to particip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w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health in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PPE for staff and their fami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 EVD surviv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 staff in a timely ma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ers need proper training and resources for perform their job saf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ilor to the role of the staff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esher train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training if issues arise or operating procedures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 certificate of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mbat rank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eal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vide medical care while employ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ing for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following should be addressed and strictly enforced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enter communities that seem hostile, aggressive, or unwelco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try to impede contacts or cases that are trying to fl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*Of note, if security professionals interact with suspect, probable, or confirmed cases, depending on the situation they may meet the definition of a contact, and therefore, require tracer follow-up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ing questions to as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direct physic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sexu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lived with the case in the same househo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visited the case (at home, healthcare facility, funeral/burial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ces the case visited (i.e. work, pharmacy, church, extended family, traditional healers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alth facilities utilized by the case and all health care workers who cared for the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964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iderations for Contact Iden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alendars, holidays, or birthdays to assist with recall of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uspect, probable, or confirmed cases are notified of their status, fear is the likely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ychosocial support on the investigation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ultural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Enrollment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stical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treet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nick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ries without a national ID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PS tracking of conta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aging community l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Stig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s to overcome stig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gaging and educating community leaders regarding EVD infection, transmission, and the community’s r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health communication campaig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psychosocial support to combat f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e a “safe” meeting place/time for contacts that will not identify them as an EVD contact to their peers, family and/or communit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the process of identifying, controlling, and managing EVD to eliminate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atic follow-up during 21 days after the date of last cont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um incubation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ALITY ASSURANCE AND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vestigation Team/Rapid Response Team/Lead Epidemiologis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cases with a low number of reported cont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cautious when the numbers don’t match to previous cases with similar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re-interviewing the case, family, neighbors,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prompting for additional activities of daily liv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sure accurate assessment of a contact’s health status by trac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to interview and evaluate whether the assessment of the health status is similar to the tracers’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eld Supervisor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racers are visiting the contacts da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technology is readily available, employ mobile GPS tracking of the contact tra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ppropriate, take a picture of the contact or landmark to submit to field officer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and interview the contacts to ensure they have been receiving a visit by a tracer every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days were missed, confirm they were accurately recorded by the tracing te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Measures: Must be 100%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ness of the weekly active surveillance repo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being traced da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followed for all 21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ases that had contact tracing implemented within 24 hours of case 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contacts are not identified/missed, exponential EVD transmission is lik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tact tracing protocol must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e more investigation teams, field supervisors, and contact tra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efforts primarily on the high risk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 should be given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ing more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ring mor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dditional teams to accommodate expanding control efforts (i.e.; disinfection or burial tea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Shift of Foc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orts may begin to focus primarily 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 ris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groups, in order to save direct resources in an appropriate man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classification of contacts are based on the CDC guidelines†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tracing is essential for the identification, control, and elimination of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even one contact is missed, there is high likelihood for ongoing transmis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critical that contact tracing is implemented quickly and managed sufficiently for the EVD response to be eff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ediate identification of individuals who become symptomatic, and thus, contag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ping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mplemented quickly and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ACT*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person who interacted with a symptomatic EVD case (suspect, probable, or confirmed) in at least one of the following manner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case (dead or alive)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(dead) case at the fune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blood or body fluids of the case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s breastfed by the patient (for infan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clothes or linens of the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ept in the same household with a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igh vs Low Ris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utaneous or mucous membrane exposure to blood or body fluids of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skin contact with, or exposure to blood or body fluids of, a confirmed or suspect EVD patient without appropriate personal protective equipment (P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ing blood or body fluids of a confirmed EVD patient without appropriate PPE or standard bio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contact with a dead body without appropriate PPE in a country where an EVD outbreak is occur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hold contact with an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 contact with EVD patients in health care facilities or community setting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eing within approximately 3 feet (1 meter) of an EVD patient or within the patient’s room or care area for a prolonged period of time (e.g., health care personnel, household members)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aving direct brief contact (e.g., shaking hands) with an EVD patient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categories of EVD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Suspect Case:  A person, dead or alive, with at least one of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nknown cause of bleed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, unknown cause of deat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contact with either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uspect, probable or confirmed EVD cas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ick or dead anim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at least three of the following symptom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eadach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orexia / loss of appeti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etharg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ching muscles or joi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reathing difficult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Vomi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arrh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omach pa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fficulty swallow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ccup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Probable Case: Any suspect case that meets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d by a clinician and concluded to be infected with EV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ase is deceased but with a known epidemiological link to a confirmed case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Confirmed Cas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y suspect or probable case with a positive EVD laboratory result (PCR or serology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8:10Z</dcterms:modified>
  <cp:revision>142</cp:revision>
  <dc:subject/>
  <dc:title>DPC Training and Technical Update</dc:title>
</cp:coreProperties>
</file>